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3AE6-21EE-454E-A4FD-DA5E911C6BC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9A7E-FBBB-47F5-BD0C-E58C48AC37E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9920-72A0-4F1B-B906-64A8951A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A4C1-D4C8-4B15-92CF-D7CFD796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666-007E-40D8-8234-92A6EF779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A7A-E512-4253-9D39-781CA198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575-624A-448F-A25F-0F796957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BBB9-66AC-4C88-97CD-287A712C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4F65-0098-4615-B932-7932165F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4EB7-A6DA-4889-9AC0-81162084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BAFD-8034-472F-99E5-5F817F9B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ED6-F570-409B-A81C-9AA797C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23F6-BEBE-4EF7-9CC7-570C7B01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B3CE-EEA6-401C-A6C8-C54A8338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7082F-1725-4C9E-A87B-9C2CECF6B4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49"/>
          <p:cNvSpPr/>
          <p:nvPr/>
        </p:nvSpPr>
        <p:spPr>
          <a:xfrm>
            <a:off x="4267080" y="304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53 Forma libre"/>
          <p:cNvSpPr/>
          <p:nvPr/>
        </p:nvSpPr>
        <p:spPr>
          <a:xfrm>
            <a:off x="5367240" y="5072040"/>
            <a:ext cx="860400" cy="1046160"/>
          </a:xfrm>
          <a:custGeom>
            <a:avLst/>
            <a:gdLst/>
            <a:ahLst/>
            <a:rect l="l" t="t" r="r" b="b"/>
            <a:pathLst>
              <a:path w="861392" h="1046921">
                <a:moveTo>
                  <a:pt x="0" y="0"/>
                </a:moveTo>
                <a:lnTo>
                  <a:pt x="861392" y="0"/>
                </a:lnTo>
                <a:lnTo>
                  <a:pt x="861392" y="10469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52 Forma libre"/>
          <p:cNvSpPr/>
          <p:nvPr/>
        </p:nvSpPr>
        <p:spPr>
          <a:xfrm>
            <a:off x="5367240" y="3392640"/>
            <a:ext cx="860400" cy="1047600"/>
          </a:xfrm>
          <a:custGeom>
            <a:avLst/>
            <a:gdLst/>
            <a:ahLst/>
            <a:rect l="l" t="t" r="r" b="b"/>
            <a:pathLst>
              <a:path w="861392" h="1046921">
                <a:moveTo>
                  <a:pt x="0" y="0"/>
                </a:moveTo>
                <a:lnTo>
                  <a:pt x="861392" y="0"/>
                </a:lnTo>
                <a:lnTo>
                  <a:pt x="861392" y="104692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51 Forma libre"/>
          <p:cNvSpPr/>
          <p:nvPr/>
        </p:nvSpPr>
        <p:spPr>
          <a:xfrm>
            <a:off x="4373640" y="1484280"/>
            <a:ext cx="1841400" cy="5016600"/>
          </a:xfrm>
          <a:custGeom>
            <a:avLst/>
            <a:gdLst/>
            <a:ahLst/>
            <a:rect l="l" t="t" r="r" b="b"/>
            <a:pathLst>
              <a:path w="1842053" h="4757531">
                <a:moveTo>
                  <a:pt x="0" y="4757531"/>
                </a:moveTo>
                <a:lnTo>
                  <a:pt x="0" y="3644348"/>
                </a:lnTo>
                <a:lnTo>
                  <a:pt x="993913" y="3644348"/>
                </a:lnTo>
                <a:lnTo>
                  <a:pt x="993913" y="0"/>
                </a:lnTo>
                <a:lnTo>
                  <a:pt x="18420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46 Conector recto"/>
          <p:cNvSpPr/>
          <p:nvPr/>
        </p:nvSpPr>
        <p:spPr>
          <a:xfrm flipH="1">
            <a:off x="3498840" y="642960"/>
            <a:ext cx="144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44 Conector recto"/>
          <p:cNvSpPr/>
          <p:nvPr/>
        </p:nvSpPr>
        <p:spPr>
          <a:xfrm flipH="1">
            <a:off x="6215040" y="642960"/>
            <a:ext cx="1440" cy="164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137 Conector angular"/>
          <p:cNvCxnSpPr/>
          <p:nvPr/>
        </p:nvCxnSpPr>
        <p:spPr>
          <a:xfrm flipH="1" flipV="1" rot="5400000">
            <a:off x="3498480" y="1224000"/>
            <a:ext cx="2520" cy="1715400"/>
          </a:xfrm>
          <a:prstGeom prst="bentConnector3">
            <a:avLst>
              <a:gd name="adj1" fmla="val 6361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" name="133 Conector angular"/>
          <p:cNvCxnSpPr/>
          <p:nvPr/>
        </p:nvCxnSpPr>
        <p:spPr>
          <a:xfrm flipV="1" rot="16200000">
            <a:off x="3005640" y="5040"/>
            <a:ext cx="3061440" cy="7215840"/>
          </a:xfrm>
          <a:prstGeom prst="bentConnector3">
            <a:avLst>
              <a:gd name="adj1" fmla="val 14815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6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3"/>
          <p:cNvSpPr/>
          <p:nvPr/>
        </p:nvSpPr>
        <p:spPr>
          <a:xfrm>
            <a:off x="3500280" y="71280"/>
            <a:ext cx="1643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a glob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357120" y="12351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8"/>
          <p:cNvSpPr/>
          <p:nvPr/>
        </p:nvSpPr>
        <p:spPr>
          <a:xfrm>
            <a:off x="500040" y="7142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qui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2071800" y="12351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3071880" y="7142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3786120" y="12351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ficult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5643720" y="100980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8"/>
          <p:cNvSpPr/>
          <p:nvPr/>
        </p:nvSpPr>
        <p:spPr>
          <a:xfrm>
            <a:off x="5786280" y="714240"/>
            <a:ext cx="85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e apoya 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1"/>
          <p:cNvSpPr/>
          <p:nvPr/>
        </p:nvSpPr>
        <p:spPr>
          <a:xfrm>
            <a:off x="7500960" y="1009800"/>
            <a:ext cx="11430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 pro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istór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8"/>
          <p:cNvSpPr/>
          <p:nvPr/>
        </p:nvSpPr>
        <p:spPr>
          <a:xfrm>
            <a:off x="7848720" y="714240"/>
            <a:ext cx="6523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142920" y="2082960"/>
            <a:ext cx="1571760" cy="23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imin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s prác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nacional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conóm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iber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vimiento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regulación 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rcado labo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duc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interv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ública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ducació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guridad social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500040" y="163836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857240" y="2082960"/>
            <a:ext cx="1571760" cy="23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conómico y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umento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du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jora de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di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nitar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sminu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nutric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rtalidad infant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unic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rápida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ra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fusión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8"/>
          <p:cNvSpPr/>
          <p:nvPr/>
        </p:nvSpPr>
        <p:spPr>
          <a:xfrm>
            <a:off x="2214720" y="163836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1"/>
          <p:cNvSpPr/>
          <p:nvPr/>
        </p:nvSpPr>
        <p:spPr>
          <a:xfrm>
            <a:off x="3571920" y="2082960"/>
            <a:ext cx="1571760" cy="19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terioro del me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lent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érdida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versidad cultur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riqueza gener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o se distribuy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quitativam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blema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guridad a ni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8"/>
          <p:cNvSpPr/>
          <p:nvPr/>
        </p:nvSpPr>
        <p:spPr>
          <a:xfrm>
            <a:off x="3929040" y="163836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1"/>
          <p:cNvSpPr/>
          <p:nvPr/>
        </p:nvSpPr>
        <p:spPr>
          <a:xfrm>
            <a:off x="5572080" y="1857240"/>
            <a:ext cx="1743120" cy="131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formá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croelectrón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lefonía celular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teli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edio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radio y televisió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5572080" y="328608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onectiv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8"/>
          <p:cNvSpPr/>
          <p:nvPr/>
        </p:nvSpPr>
        <p:spPr>
          <a:xfrm>
            <a:off x="6000840" y="1555920"/>
            <a:ext cx="5000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98"/>
          <p:cNvSpPr/>
          <p:nvPr/>
        </p:nvSpPr>
        <p:spPr>
          <a:xfrm>
            <a:off x="7572240" y="1627200"/>
            <a:ext cx="10717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a través del cu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5572080" y="4000680"/>
            <a:ext cx="15145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apacidad de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istema de estable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exión entre s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8"/>
          <p:cNvSpPr/>
          <p:nvPr/>
        </p:nvSpPr>
        <p:spPr>
          <a:xfrm>
            <a:off x="5786280" y="3660840"/>
            <a:ext cx="85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 dec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5572080" y="499896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flexi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5334120" y="5737320"/>
            <a:ext cx="1738080" cy="100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apacidad de reconfigurar en permanencia las conexiones sin alterar la capacidad de funcionamiento de la 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8"/>
          <p:cNvSpPr/>
          <p:nvPr/>
        </p:nvSpPr>
        <p:spPr>
          <a:xfrm>
            <a:off x="5786280" y="5375160"/>
            <a:ext cx="85752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es deci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3714840" y="526428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horizont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1"/>
          <p:cNvSpPr/>
          <p:nvPr/>
        </p:nvSpPr>
        <p:spPr>
          <a:xfrm>
            <a:off x="3505320" y="6006960"/>
            <a:ext cx="156672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ló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rganiz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centralizada y 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iramid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8"/>
          <p:cNvSpPr/>
          <p:nvPr/>
        </p:nvSpPr>
        <p:spPr>
          <a:xfrm>
            <a:off x="3929040" y="563868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ferida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1"/>
          <p:cNvSpPr/>
          <p:nvPr/>
        </p:nvSpPr>
        <p:spPr>
          <a:xfrm>
            <a:off x="7500960" y="2000160"/>
            <a:ext cx="11430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ha i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truye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8"/>
          <p:cNvSpPr/>
          <p:nvPr/>
        </p:nvSpPr>
        <p:spPr>
          <a:xfrm>
            <a:off x="7643880" y="25718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u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1"/>
          <p:cNvSpPr/>
          <p:nvPr/>
        </p:nvSpPr>
        <p:spPr>
          <a:xfrm>
            <a:off x="7500960" y="29289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d mund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8"/>
          <p:cNvSpPr/>
          <p:nvPr/>
        </p:nvSpPr>
        <p:spPr>
          <a:xfrm>
            <a:off x="7643880" y="32702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1"/>
          <p:cNvSpPr/>
          <p:nvPr/>
        </p:nvSpPr>
        <p:spPr>
          <a:xfrm>
            <a:off x="7500960" y="357192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ec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7643880" y="392904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divers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91"/>
          <p:cNvSpPr/>
          <p:nvPr/>
        </p:nvSpPr>
        <p:spPr>
          <a:xfrm>
            <a:off x="7286760" y="4299120"/>
            <a:ext cx="1571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unidades y grup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uma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8"/>
          <p:cNvSpPr/>
          <p:nvPr/>
        </p:nvSpPr>
        <p:spPr>
          <a:xfrm>
            <a:off x="7643880" y="4786200"/>
            <a:ext cx="8571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"/>
          <p:cNvSpPr/>
          <p:nvPr/>
        </p:nvSpPr>
        <p:spPr>
          <a:xfrm>
            <a:off x="7358040" y="5143680"/>
            <a:ext cx="15717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ienzan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sarrollarse 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ordenada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iempo y espac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arti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5000760" y="1428840"/>
            <a:ext cx="928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caracterizad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73 Imagen" descr="marcacion11.jpg"/>
          <p:cNvPicPr/>
          <p:nvPr/>
        </p:nvPicPr>
        <p:blipFill>
          <a:blip r:embed="rId1"/>
          <a:stretch/>
        </p:blipFill>
        <p:spPr>
          <a:xfrm>
            <a:off x="7392960" y="6143760"/>
            <a:ext cx="1608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0:29Z</dcterms:modified>
  <cp:revision>224</cp:revision>
  <dc:subject/>
  <dc:title>Diapositiva 1</dc:title>
</cp:coreProperties>
</file>